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31050-CCCA-4698-A25E-5FD5CD723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FCB29-8784-4996-A6FC-4027844CE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33055-CCFF-45AC-82C3-20BE876E3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3E264-D4D5-4180-A492-E58AC13FA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49D51-8A8C-4932-A81F-A276C81FD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1061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7D037-18C6-4027-AA74-61377AEF9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1C771-1E46-402F-8DDE-F3DAB15CE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7A1E0-869A-4FEB-B6DD-3C68EFB3A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C918A-F65D-4F88-B942-81B2F08F9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900BD-28FA-402C-9D7C-C9B43F539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78563-CFA0-495E-B570-C4CFC123F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91C81-3AAE-4CB5-BD41-0609DF535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1061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8" descr="LOGO"/>
          <p:cNvPicPr/>
          <p:nvPr/>
        </p:nvPicPr>
        <p:blipFill>
          <a:blip r:embed="rId2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8" descr="LOGO"/>
          <p:cNvPicPr/>
          <p:nvPr/>
        </p:nvPicPr>
        <p:blipFill>
          <a:blip r:embed="rId2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701C2-B063-42AC-B554-B994E53EF15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YPERTENSIVE CRI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0726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f. Dr Violeta Irić Ćupi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INTEGRATED STUDIES OF MEDIC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ek 4, unit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1061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peed of regulation of blood pressure - </a:t>
            </a:r>
            <a:r>
              <a:rPr b="1" lang="sr-Latn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egre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of therapeutic urg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degree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Within a few minutes or within the first hou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cephalopathy with convul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clamps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section of the aor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techolamine crises (Pheochromocytoma crisi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1061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peed of regulation of blood pressure - </a:t>
            </a:r>
            <a:r>
              <a:rPr b="1" lang="sr-Latn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egre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of therapeutic urg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 </a:t>
            </a:r>
            <a:r>
              <a:rPr b="1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gre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in few hou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ute hypertensive heart failure (pulmonary edema I-II degre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eclamps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lignant hypert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lerated hypert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4400" y="1125000"/>
            <a:ext cx="847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peed of regulation of blood pressure - </a:t>
            </a:r>
            <a:r>
              <a:rPr b="1" lang="sr-Latn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egre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of therapeutic urg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Rectangle 3" descr=""/>
          <p:cNvPicPr/>
          <p:nvPr/>
        </p:nvPicPr>
        <p:blipFill>
          <a:blip r:embed="rId1"/>
          <a:stretch/>
        </p:blipFill>
        <p:spPr>
          <a:xfrm>
            <a:off x="457200" y="2236680"/>
            <a:ext cx="8229600" cy="457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106164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herapy in hypertensive crisis (vasodilators or adrenergic inhibito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2500200"/>
            <a:ext cx="8229600" cy="431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y depend solely on the degree of therapeutic urgency and not on the pressure valu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eg eclampsia with convulsions..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peed of regulation of blood pressure - </a:t>
            </a:r>
            <a:r>
              <a:rPr b="1" lang="sr-Latn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egre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of therapeutic urg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214200" y="2287080"/>
            <a:ext cx="8715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peed of regulation of arterial hypertension, as well as the </a:t>
            </a:r>
            <a:r>
              <a:rPr b="1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rge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lues of arterial hypertension, are diffe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ute pulmonary edema, aortic dissection → decrease in 15 to 30 m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ypertensive encephalopathy → decrease by 25%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an B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uring 2-3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ok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decrease to a value of 170-180/100mmHg during 6-12 ho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rapeutic strategies in hypertensive patients with acute stroke and cerebrovascular dise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457200" y="2133720"/>
            <a:ext cx="8229600" cy="45860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3" descr=""/>
          <p:cNvPicPr/>
          <p:nvPr/>
        </p:nvPicPr>
        <p:blipFill>
          <a:blip r:embed="rId2"/>
          <a:stretch/>
        </p:blipFill>
        <p:spPr>
          <a:xfrm>
            <a:off x="4788000" y="5229360"/>
            <a:ext cx="2286000" cy="3603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4" descr=""/>
          <p:cNvPicPr/>
          <p:nvPr/>
        </p:nvPicPr>
        <p:blipFill>
          <a:blip r:embed="rId3"/>
          <a:stretch/>
        </p:blipFill>
        <p:spPr>
          <a:xfrm>
            <a:off x="3995640" y="2708280"/>
            <a:ext cx="228600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herapeutic procedures - parenteral or o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advantage of parenteral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eatmen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in the easy and quick monitoring of the hypotensive effect, but also in the method of administration in life-threatening patients (impossibility of per os administration, impaired consciousn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Ciril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Ciril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1061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herapeutic procedures of </a:t>
            </a:r>
            <a:r>
              <a:rPr b="1" lang="sr-Latn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urgent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hypertensive conditions (parenter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- nitroprus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ypertensive encephalopathy (Medicine of choice), cerebral hemorrhage or infarction, acute left ventricular weakness, acute coronary insufficiency, aneurysm dissection, catecholamine crisis, head injury, after surgery, malignant hyperten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itroglycerin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ute LV weakness, acute coronary insufficiency, postopera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1061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herapeutic procedures of </a:t>
            </a:r>
            <a:r>
              <a:rPr b="1" lang="sr-Latn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urgent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hypertensive conditions (parenter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2428920"/>
            <a:ext cx="8229600" cy="438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rapid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ipheral blocker of postsynaptic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ά1 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renergic receptors (reduces peripheral vascular resistance), central sympatholytic effect, manifested in 2 to 5 m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ok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LV insuffici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ydralazine, Diazox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clampsia, extensive burns, malignant hyperten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Ciril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Ciril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1061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herapeutic procedures of </a:t>
            </a:r>
            <a:r>
              <a:rPr b="1" lang="sr-Latn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urgent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hypertensive conditions (parenter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228564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entolamine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techolamine cri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etal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ypertensive encephalopathy, acute coronary insufficiency, burns, postoperative, malignant hypertension (not in broncho-obstruction, AV block, SA blo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ypertensive crisis-defi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sudden and large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 blood pressure values in a short time interval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refore, currently, the absolute measured blood pressure values are less important for defining the hypertensive crisis itself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ymptomatic or with signs of vascular damage to vital organs (encephalopathy, kidney and heart failure)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13840" y="1061640"/>
            <a:ext cx="8472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herapeutic procedures of </a:t>
            </a:r>
            <a:r>
              <a:rPr b="1" lang="sr-Latn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urgent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hypertensive conditions</a:t>
            </a:r>
            <a:r>
              <a:rPr b="1" lang="sr-Latn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or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2560" y="2276280"/>
            <a:ext cx="7772400" cy="381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ptopril, enalapril, ramipr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onid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ifedip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11280" y="1052280"/>
            <a:ext cx="853272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urrent recommendations for therapeutic sel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755640" y="1557360"/>
          <a:ext cx="7416720" cy="5754600"/>
        </p:xfrm>
        <a:graphic>
          <a:graphicData uri="http://schemas.openxmlformats.org/drawingml/2006/table">
            <a:tbl>
              <a:tblPr/>
              <a:tblGrid>
                <a:gridCol w="2112840"/>
                <a:gridCol w="2651400"/>
                <a:gridCol w="2652480"/>
              </a:tblGrid>
              <a:tr h="373680">
                <a:tc>
                  <a:txBody>
                    <a:bodyPr tIns="47520" bIns="4752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Arial Cirilica"/>
                        </a:rPr>
                        <a:t>Diagnos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7520" bIns="4752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Arial Cirilica"/>
                        </a:rPr>
                        <a:t>Medicine of choi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7520" bIns="4752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Arial Cirilica"/>
                        </a:rPr>
                        <a:t>Contraindic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8920">
                <a:tc>
                  <a:txBody>
                    <a:bodyPr tIns="47520" bIns="4752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Cirilica"/>
                        </a:rPr>
                        <a:t>Cerebral ischem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7520" bIns="4752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rapidil/labetalo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itroprussi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7520" bIns="4752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g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/nifedipine/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7120">
                <a:tc>
                  <a:txBody>
                    <a:bodyPr tIns="47520" bIns="4752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Cirilica"/>
                        </a:rPr>
                        <a:t>Cerebral hemorrh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7520" bIns="4752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rapidil/labetalol/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itroprussi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7520" bIns="4752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tg/Nifedipin</a:t>
                      </a: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/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7480">
                <a:tc>
                  <a:txBody>
                    <a:bodyPr tIns="47520" bIns="4752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Cirilica"/>
                        </a:rPr>
                        <a:t>Hypertensive encephalopath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7520" bIns="4752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rapidil/labetalo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itroprussi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7520" bIns="4752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tg/Nifedipin</a:t>
                      </a: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/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7480">
                <a:tc>
                  <a:txBody>
                    <a:bodyPr tIns="47520" bIns="4752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Cirilica"/>
                        </a:rPr>
                        <a:t>A</a:t>
                      </a: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Arial Cirilica"/>
                        </a:rPr>
                        <a:t>C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Cirilica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7520" bIns="4752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itroglycer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itroprussi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7520" bIns="4752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</a:t>
                      </a: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ralazin</a:t>
                      </a: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/Nifedipin</a:t>
                      </a: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9000">
                <a:tc>
                  <a:txBody>
                    <a:bodyPr tIns="47520" bIns="4752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Cirilica"/>
                        </a:rPr>
                        <a:t>Acute left ventricular failu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7520" bIns="4752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rapidil/N</a:t>
                      </a: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troglycer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itroprussi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7520" bIns="4752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</a:t>
                      </a: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ralazin</a:t>
                      </a: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/Nifedipin</a:t>
                      </a: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9040">
                <a:tc>
                  <a:txBody>
                    <a:bodyPr tIns="47520" bIns="4752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Cirilica"/>
                        </a:rPr>
                        <a:t>Aortic disse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Cirilica"/>
                        </a:rPr>
                        <a:t>Eclamps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7520" bIns="4752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rapidil/N</a:t>
                      </a: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troglycerin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itroprussi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rapidil-hydralazi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7520" bIns="4752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</a:t>
                      </a: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ralazin</a:t>
                      </a: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/Nifedipin</a:t>
                      </a: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itroprussi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880">
                <a:tc>
                  <a:txBody>
                    <a:bodyPr tIns="47520" bIns="4752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7520" bIns="4752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7520" bIns="4752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980640"/>
            <a:ext cx="9144000" cy="77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n the therapy of </a:t>
            </a:r>
            <a:r>
              <a:rPr b="1" lang="sr-Latn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ypertensiv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crisis, it is not recommen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179280" y="1989000"/>
          <a:ext cx="8275680" cy="4268880"/>
        </p:xfrm>
        <a:graphic>
          <a:graphicData uri="http://schemas.openxmlformats.org/drawingml/2006/table">
            <a:tbl>
              <a:tblPr/>
              <a:tblGrid>
                <a:gridCol w="4426200"/>
                <a:gridCol w="3849480"/>
              </a:tblGrid>
              <a:tr h="1027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o not lower</a:t>
                      </a:r>
                      <a:r>
                        <a:rPr b="0" lang="sr-Latn-R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BP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too quickl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„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bound </a:t>
                      </a:r>
                      <a:r>
                        <a:rPr b="0" lang="sr-Latn-R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henomenon“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</a:t>
                      </a:r>
                      <a:r>
                        <a:rPr b="0" lang="sr-Latn-R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active tachycardia, arrhythmia, arterial hypertension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o not treat with sublingual nifedipi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Cirilica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Cirilica"/>
                        </a:rPr>
                        <a:t>"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bound </a:t>
                      </a:r>
                      <a:r>
                        <a:rPr b="0" lang="sr-Latn-R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henomeno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0" lang="sr-Latn-R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“</a:t>
                      </a:r>
                      <a:r>
                        <a:rPr b="0" lang="sr-R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creased requirements of the myocardium for 02, cerebral hypoperfus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5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o not treat every crisis with parenteral furosemid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lectrolyte imbalan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7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Cirilica"/>
                        </a:rPr>
                        <a:t>Do not treat </a:t>
                      </a:r>
                      <a:r>
                        <a:rPr b="0" lang="sr-Latn-RS" sz="2000" spc="-1" strike="noStrike">
                          <a:solidFill>
                            <a:srgbClr val="000000"/>
                          </a:solidFill>
                          <a:latin typeface="Arial Cirilica"/>
                        </a:rPr>
                        <a:t>with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Cirilica"/>
                        </a:rPr>
                        <a:t> Nt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creased intracranial pressu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General precautions in the treatment of </a:t>
            </a:r>
            <a:r>
              <a:rPr b="1" lang="sr-Latn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ypertensiv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cri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ropriate lying pos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the elderly, start with a lower d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equent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tr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1061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haracteristics of a good </a:t>
            </a:r>
            <a:r>
              <a:rPr b="1" lang="sr-Latn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edicament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used in the therapy of hypertensive crisis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at the pressure is not lowered too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at it is titratable and that the hypotensive effect can be control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at there are no contraindications for various clinical manifestations of hypertensive cri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at there are no significant interactions with other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dica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at it is effec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at side effects are rare and mi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rent change in definition and termin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Asymptomatic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now called chronic unrecognized hypertens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W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ith signs of vascular damage to vital organ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encephalopathy, kidney and heart failure)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 hypertensive cri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pidemi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%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tients that have essential hypert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rely in normotensive patients (stress,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uma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r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1062000"/>
            <a:ext cx="8229600" cy="56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linical manifes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700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dden onset, progressive cour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ymptomatic or with signs of vascular damage to vital organs (encephalopathy, kidney and heart failure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adache, anxiety, fear, suffo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cephalopathy (headache, nausea, vomit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lmonary edema, decreased renal fu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hallmark of this condition is small artery fibrinoid necrosis in the kidney, retina, and b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linical manifestation and HM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ypertension mediated organ damage (HMOD) refers to structural or functional changes in arteries or in target organs that can be present in long-standing hypertension, but it can be also found in naive never treated patients, or in hypertensive cri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hallmark of this condition is small artery fibrinoid necrosis in the kidney, retina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b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ypertensive crisis </a:t>
            </a:r>
            <a:br>
              <a:rPr sz="2800"/>
            </a:b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rgency or emergency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ypertension emergency are situations in which severe hypertension (grade 3) is associated with acute HMOD, which is often life-threatening and requires immediate but careful intervention to lower BP, usually with intravenous therap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ate and magnitude of an increase in BP must be at least important as the absolute level of BP in determining the magnitude of organ inju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ypertensive crisis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rgency or emergency</a:t>
            </a: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ical presentation  of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pertension emergency are patients with malignant hypertension (fundoscopic changes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flame haemorrhages with/or papilloedema, microangiopathy, and can be associated with encephalopathy, acute hearth failure, and acute deterioration in renal fun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he most important rules in the treatment of hypertensive cri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peed of blood pressure regulation depends on the degree of therapeutic urg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9T15:51:59Z</dcterms:created>
  <dc:creator>Registered User</dc:creator>
  <dc:description/>
  <dc:language>en-US</dc:language>
  <cp:lastModifiedBy>Violeta</cp:lastModifiedBy>
  <dcterms:modified xsi:type="dcterms:W3CDTF">2023-08-19T17:35:44Z</dcterms:modified>
  <cp:revision>85</cp:revision>
  <dc:subject/>
  <dc:title>Hipertenzivna kriza-hitno ili urgentno stanj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